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6B7A-C049-43BE-AEF5-6722588A4D8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современной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проекта Еремеева И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6D69-B42A-4841-8BF5-1A1E0646A8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ть/поним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асть применения и назначение технических устройств (в том числе компьютер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ые источники информ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начение основных устройств компьютер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безопасного поведения и гигиены при работе с инструментами (в том числе с компьютером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ать необходимую информацию об объекте деятельности, используя рисунки, схемы, эскизы, чертежи (на бумажных и электронных носителях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FF71-1F28-48B1-8945-8D94C050B6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людения безопасных приемов работы со средствами информационных и коммуникационных технолог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ения учебных и практических задач с применением возможностей компьюте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иска информации с использованием простейших запрос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менения и создания простых информационных объектов на компьюте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F36B-A324-49DF-AACA-A4B00DA101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ние учебного модул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значение основных устройств компьютера для ввода, вывода, обработки информации. Включение и выключение компьютера и подключаемых к нему устройств. Клавиатура, общее представление о правилах клавиатурного письма, пользование мышью, использование простейших средств текстового редактора. Простейшие приемы поиска информации: по ключевым словам, каталогам. Соблюдение безопасных приемов труда при работе на компьютере; бережное отношение к техническим устрой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ростыми информационными объектами (текст, таблица, схема, рисунок): преобразование, создание, сохранение, удаление. Вывод текста на прин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ебольшого текста по интересной детям тематике с использованием изображений на экране компьюте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54C3-6D84-4F2E-8E7F-165738AF9B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держ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ебного модуля «Практика работы на компьютере (использования информационных технологий)»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авленно лишь на обеспечение компьютерной грамо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ащими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на разница в целях преподавания информатики в начальной школе как отдельного предмета и в качестве учебного модуля предмета «Техноло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ада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дна из основных целей эт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 и развитие логического и алгоритмического мыш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не в полной мере реализуется цель: формирование первичного понятийного аппарата информатики – как науки об информации, ее формах, свойствах, способах представления и обработки о соответствующем инструмента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A7C1-B819-4BA5-84F1-83EF204E67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исьме Министерства образования Российской Федерации от 17.12. 2001 №957/13-13 "Методическое письмо по вопросам обучения информатике в начальной школе" представлены три варианта преподавания информатики в начальной шко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1159-0511-4884-95A3-9BAEFF950E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скомпьютерное изучение информатики в рамках 1 урока в интеграции с предмет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е обучение с такими предметами как математика, риторика, рисование, труд, музыка, окружающий мир в бескомпьютерном варианте обучения возможно реализовать по схеме: 1 урок информатики и использование практических знаний в содержании других предметных уроков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ение проводит учитель начальных классов без деления класса на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A7AA-8E40-490B-B7EE-1A60676189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рганизация компьютерной поддержки предмета "Информатика" в рамках одного урока без деления на групп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необходимо учитывать наличие компьютеров в начальной школе (например, компьютер учителя или 3-7 компьютеров в классе), электронных средств обучения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ь учителей начальной шко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использованию компьютерной поддержки на уроках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учении информатике с компьютерной поддержкой также возможно использовать интегрированный подход по схеме первого с использованием 15-минутного компьютерного практику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й практикум может быть индивидуальным (один ученик за одним компьютером) и демонстрационным. При этом один компьютер учителя в классе может быть использован как "электронная" до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14D9-B427-4DC7-888E-4896C9B38A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к информатики с делением на группы в кабинете информат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боре формы обучения информатике с компьютерной поддержкой с использованием компьютерного кабинета школы (12 мест) рекомендует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влек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проведению урока информатики (1 час)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я информатики школы для совместного параллельного проведения занятий двумя учител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локами по 15 минут. Теоретическая часть для 1-й группы и компьютерная часть урока для 2-й группы соответственно, и наоб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компьютерной поддержке обучения информатике необходимо соблюдать требования к оборудованию кабинета вычислительной техникой, санитарные нормы организации труда детей за компьютер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за компьютером следует заканчивать профилактическими упражнениями для зрения (1 мин) и осанки (1-2 м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BE0A-A724-4AD5-8FD7-48D3A2281D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ктронные средства учебного назнач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азбуки и буквари для ознакомления работы с текс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иатурные тренажеры с ненавязчивой скоростью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раскраски и геометрические конструкто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лабиринты для управления объек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моза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е игры на компьютер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энциклопедии, путешеств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AED2-9F14-4B5B-BCD4-2445611E06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топологические сх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учебники с иллюстрациями и заданиями удовлетворяющие возможности использования фрагментами по 5 минут с дальнейшим обсужде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вычислительные игровые и алгоритмические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интезаторы зву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ы-кроссворды и азбуки на компьютере на иностранных язы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реды управления исполните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инструментальные развивающие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E8E5-A0B7-4EB0-9562-8B4807D79A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цели введения уроков информатики в начальной школ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рвич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нятийного аппарата информатики – как науки об информации, ее формах, свойствах, способах представления и обработки на соответствующем инструмента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формационной культуры в процессе использования учебных игровых программ, простейших компьютерных тренажеров и т.д. на уроках математики, русского языка, ИЗО и других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рвичных психомоторных и поведенческих навыков общения с компьютер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развитие логического и алгоритми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8EEC-C144-46D1-9BBF-7AF0C1E459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проведения занят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установочной фазы урока идет его основная, познавательная часть, определяемая доминантной целью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следует его вариативная часть, когда вид деятельности определяется вспомогательными целями урока: развитие памяти, мышления, проверка домашнего задания, вопросы для закрепления нового материала и проверки качества его усвоения. При этом используются тесты, задачи, игры - деятельность, при которой требуется “пошевелить мозгами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ом занятии желательно предоставлять возможность учащимся поработать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C6A2-4338-4051-B7E7-6B235FF689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тельная систем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Школа 2100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комендуемый учебно-методический компле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играх и задачах: Учебник-тетрадь для 1 (2, 3, 4) кл. /А.В. Горячев и др. – М.: Баласс, 1998 – 200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играх и задачах: Учебник-тетрадь для 1 (2, 3, 4) кл.  Методические рекомендации для учителя. /А.В. Горячев и др. – М.: Баласс, 1998 –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ьютерную поддержку рекомендуется осуществля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в информатику (компьютерная поддержка  к курсу А.В. Горячева «Информатика в играх и задачах»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«Роботландия» (авторы Ю.А. Первин, А.А. Дувано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4F40-D619-432F-858D-7F9C306902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, группы (классы) объект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е рассуж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нформатики в начальной школе по данному комплекту предполагается в основном без использования компьютеров. Компьютерная поддержка допустима, но не обязатель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45FA-44D6-441C-B8F2-EBAA09C96D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разовательная систем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ерспективная начальная школ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комендуемый учебно-методический компле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енсон Е.П., Паутова А.Г. Информатика. Учебник-тетрадь. 2 (3, 4) класс. В 2-х ч. - М.: Академ-книга, 2003-2005;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енсон Е.П., Паутова А.Г. Информатика. 2 (3, 4) класс. Методическое пособие. - М.: Академ-книга, 2003-2005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ова А.Г. Информатика: Комплект компьютерных программ к учебнику-тетради. 2 (3, 4) класс. Методическое пособие + CD-диск. - М.: Академ-книга, 2003-200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30A4-93C7-4E02-B493-398281D435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картина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– универсальная машина для обработки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 и испол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и их сво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нормы при работе с информацией и информационная безопас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УМК предусматривает два варианта преподавания информатики: без компьютерной поддержки (все задания выполняются в учебнике или тетради) и с компьютерной поддержкой (на основе специально разработанного программного комплекс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DC2F-0D4E-4108-A483-828C79EECE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Гармония» и друг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бные планы и УМК данных образовательных сист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ая дисциплина «Информатика» не включена как самостоятельный предм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шению правомочного органа управления образовательным учреждением при наличии материально-технического, программно-методического и кадрового обеспеч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тику целесообразно включать в учебные планы начальной ступени обучения за счет часов компонента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26DE-3DCF-4DDE-86F4-CD416F41C9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мый для преподавания информатики УМК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2 (3, 4) кл. - М.: Изд-во «Бином. Лаборатория знаний», 2004-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Информатика. Рабочая тетрадь для 2 (3, 4) кл. в 2-х частях, 2-е изд. - М.: Изд-во «Бином. Лаборатория знаний», 2004-200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Информатика. Методический комплект: пособие + практикум на CD. - М.: Изд-во «Бином. Лаборатория знаний», 2004-200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Введение в информатику: Комплект из 12 плакатов + методическое пособие. - М.: Изд-во «Бином. Лаборатория знаний», 2004-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D9B4-9FD4-455D-AD0C-C42BE410C9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и обучения информатике в начальной школе должны соответствовать линиям основной школы, но реализуются на пропедевтическом уров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значает, что должна существовать связь между обучением информатики в начальной и базовой шко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900A-ADB6-4288-82A8-37DBFC8FD2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, виды информации (по способу восприятия, по способу представл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объекты (текст, изображение, аудиозапись, видеозапис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(живая и неживая природа, творения челове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информацией (обмен, поиск, преобразование, хранение, использова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информационных технологий (телефон, компьютер, радио, телевидение, устройства мультимеди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нформации и данных (оглавление, указатели, каталоги, записные книжки и друго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2815-2200-40AC-93DA-C342E4D0FF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ский курс 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ервые шаги в мире информатики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-методический комплект состо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е информатики. Методическое пособие для учителей. 1-4 класс. Тур С.Н., Бокучава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Рабочая тетрадь. 1-4 класс. Тур С.Н., Бокучава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педагогических программных средств "Страна "Фантаз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D9C2-43DD-4805-9185-5B17F51F0B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содержательные лин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логику (понятие множества, работа с массивами, логические высказывания, понятие присваивания и т.п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информации, виды работы с информ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 и исполн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ую поддержку на каждый год обучения обеспечивает пакет педагогических программных средств «Страна «Фантаз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в каждом уроке дополнительного задания позволяет проводить уроки и в «безмашинном вариант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988A-A68B-460D-A7B0-E0FF5459C5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рс «Информатика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р Семенов А.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лект учебных материалов по информатике для каждого класса вход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Информатика. Книга для учителя (2-4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 Информатика. Рабочая тетрадь проектов для 2 – 4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Информатика. Учебное пособие для 2 - 4 кл. ч.1,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А. Л. Семенова и др. "Информатика" для начальной школы интегрирует теоретическую информатику, социальную информатику и информационн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курса соответствует Обязательному минимуму содержания обучения для средних общеобразователь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24B4-C4AC-46F2-99BE-ED218D19AA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 – гигиенические нормы для работы школьников за компьютер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73E2-651D-4619-95CE-422AF7E611B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должен осуществлять преподавание предмета: учитель информатики или учитель начального клас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нформатики хорошо знает компьютерные технологии, но плохо - методику обучения и уровень развития младших школь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начального класса, наоборот, не разбирается в компьютерах, но хорошо владеет методикой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BD67-01E9-4B4E-914D-E663802870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 дол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о разбираться в психологии ребен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о владеть методическими приемами обучения детей младшего школьного возра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специалистами в области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30B6-841D-418A-B9F7-24D00AFAFD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содержанием уроков информатики в начальной школе должны стать игры и задачи на формирование алгоритмического мышления, нестандартные  математические задачи и упражнения на формирование навыков работы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34B6-6ED7-42AE-8AC5-690A41E7E3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ы и формы обучения на уроках информатики в начальной школе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ог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метод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минут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ристический подх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10E8-7097-4E81-B678-7848AB6425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начальной школ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ставле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2002/03 учебного год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отдельный предмет в связи с эксперимен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совершенствованию структуры и содержания общего образования, и началь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жет изучать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ступени начального общего образован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качестве самостоятельного учебного предмета только за счет часов, предусмотренных учебными планами отдельных образовательных систем начальной школы,  или  компонента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о решению правомочного органа управления образовательным учреждение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CCF9-8D84-4076-B49C-AEAE8153A7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мерном учебном плане для образовательных учреждений Российской Федерации, реализующих программы общего образования, предмет «Информатика и ИКТ» представлен 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-4 класс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ачеств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0-25 часовог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бного моду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Практика работы на компьютере (использования информационных технологий)» в рамка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мета «Технолог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 (утвержден приказом № 1312 Министерства образования РФ от 09.03.2004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A6F9-320C-470C-86F9-07B80D4E83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изучения, обязательный минимум содержания, требования к уровню подготовки выпуск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данному учебному модул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едеральным компонентом государственного образовательного стандарта начального общего образования предмета «Технология»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 наличии материально-технического обесп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__________________________________________________Федеральный компонент государственного стандарта общего образования. Часть I. Начальное общее образование. Основное общее образование. / Министерство образования Российской Федерации. – М. 2004. – 221 с. – С.56-60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037A-83E8-4EFB-911F-EC6CA875DD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D843-440E-4BD5-A963-904FE9D5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C11-1D01-43B3-8C93-01A0B5A4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561-1AE9-4B0E-B610-8E600A2D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D7D-5E80-413B-8D76-FDFBE600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ECC3F-E0E0-4465-A8E0-F1F9B730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64603-5DF9-4FF0-A5E9-DEBEBE3B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E892A-1D1E-4268-85E8-ACF1CB91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FB27C-7897-424E-8732-FEE16F4D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AE15E-CA86-4A88-A670-9F35DCB0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9FE2A-6D16-4C50-8EAB-518F1B5F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5B8B4-20DA-41D5-A674-CF716810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829B-E02D-46CC-B2F3-F7C0A808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DEC10-DC6D-42E8-ABED-E472876F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0FC53-88A7-42BC-B798-AE687FC6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7460A-2A24-48EA-B045-5DFDC086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61151-98E1-4A86-B542-E6393F91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C4895-743F-4987-8610-EF102BA7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D774-6A9B-4A50-99CD-5991D9BF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9A4-71AD-48F3-BA5B-D7A39E69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BDD-C71D-4CDF-9C28-E93E6BF3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5E0-8A6C-4EEE-B0FC-AF898184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CABD-B9C7-4B36-83B1-CC10D253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BBD9-6AA2-486A-A723-347CF5C4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E7AC-16AC-45FB-9994-2010BB78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139C-9589-4EAB-96B8-F2D21AC431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8EB4-9C21-4F6E-9373-BB06790002C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Информатика в современной начальной школе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258920" y="50842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проекта Еремеева И.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ть/поним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ласть применения и назначение технических устройств (в том числе компьютеров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источники информ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 основных устройств компьютер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и гигиены при работе с инструментами (в том числе с компьютером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ать необходимую информацию об объекте деятельности, используя рисунки, схемы, эскизы, чертежи (на бумажных и электронных носителях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блюдения безопасных приемов работы со средствами информационных и коммуникационных технолог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я учебных и практических задач с применением возможностей компьюте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а информации с использованием простейших запро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ения и создания простых информационных объектов на компьют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одержание учебного модул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«Назначение основных устройств компьютера для ввода, вывода, обработки информации. Включение и выключение компьютера и подключаемых к нему устройств. Клавиатура, общее представление о правилах клавиатурного письма, пользование мышью, использование простейших средств текстового редактора. Простейшие приемы поиска информации: по ключевым словам, каталогам. Соблюдение безопасных приемов труда при работе на компьютере; бережное отношение к техническим устройства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бота с простыми информационными объектами (текст, таблица, схема, рисунок): преобразование, создание, сохранение, удаление. Вывод текста на принте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здание небольшого текста по интересной детям тематике с использованием изображений на экране компьютера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чебного модуля «Практика работы на компьютере (использования информационных технологий)»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аправленно лишь на обеспечение компьютерной грамот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чащими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на разница в целях преподавания информатики в начальной школе как отдельного предмета и в качестве учебного модуля предмета «Технология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пад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дна из основных целей это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е и развитие логического и алгоритмического мышл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не в полной мере реализуется цель: формирование первичного понятийного аппарата информатики – как науки об информации, ее формах, свойствах, способах представления и обработки о соответствующем инструментар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исьме Министерства образования Российской Федерации от 17.12. 2001 №957/13-13 "Методическое письмо по вопросам обучения информатике в начальной школе" представлены три варианта преподавания информатики в начальной школ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Бескомпьютерное изучение информатики в рамках 1 урока в интеграции с предметами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местное обучение с такими предметами как математика, риторика, рисование, труд, музыка, окружающий мир в бескомпьютерном варианте обучения возможно реализовать по схеме: 1 урок информатики и использование практических знаний в содержании других предметных уроков.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учение проводит учитель начальных классов без деления класса на групп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Организация компьютерной поддержки предмета "Информатика" в рамках одного урока без деления на групп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этом случае необходимо учитывать наличие компьютеров в начальной школе (например, компьютер учителя или 3-7 компьютеров в классе), электронных средств обучения и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готовность учителей начальной школы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к использованию компьютерной поддержки на уроках информати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обучении информатике с компьютерной поддержкой также возможно использовать интегрированный подход по схеме первого с использованием 15-минутного компьютерного практикум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мпьютерный практикум может быть индивидуальным (один ученик за одним компьютером) и демонстрационным. При этом один компьютер учителя в классе может быть использован как "электронная" дос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Урок информатики с делением на группы в кабинете информатик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выборе формы обучения информатике с компьютерной поддержкой с использованием компьютерного кабинета школы (12 мест) рекомендуется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привлекать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к проведению урока информатики (1 час)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учителя информатики школы для совместного параллельного проведения занятий двумя учителям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блоками по 15 минут. Теоретическая часть для 1-й группы и компьютерная часть урока для 2-й группы соответственно, и наоборо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компьютерной поддержке обучения информатике необходимо соблюдать требования к оборудованию кабинета вычислительной техникой, санитарные нормы организации труда детей за компьютеро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боту за компьютером следует заканчивать профилактическими упражнениями для зрения (1 мин) и осанки (1-2 мин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Электронные средства учебного назначени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азбуки и буквари для ознакомления работы с текс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виатурные тренажеры с ненавязчивой скоростью рабо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раскраски и геометрические конструкто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лабиринты для управления объек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мозаи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гические игры на компьютер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энциклопедии, путешеств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топологические сх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учебники с иллюстрациями и заданиями удовлетворяющие возможности использования фрагментами по 5 минут с дальнейшим обсуждени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вычислительные игровые и алгоритмические сре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синтезаторы зву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кроссворды и азбуки на компьютере на иностранных язык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среды управления исполнител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инструментальные развивающие ср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нятийного аппарата информатики – как науки об информации, ее формах, свойствах, способах представления и обработки на соответствующем инструментар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н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нформационной культуры в процессе использования учебных игровых программ, простейших компьютерных тренажеров и т.д. на уроках математики, русского языка, ИЗО и других предме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ых психомоторных и поведенческих навыков общения с компьютер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развитие логического и алгоритмического мыш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новные цели введения уроков информатики в начальной школе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етодика проведения занятий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установочной фазы урока идет его основная, познавательная часть, определяемая доминантной целью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ем следует его вариативная часть, когда вид деятельности определяется вспомогательными целями урока: развитие памяти, мышления, проверка домашнего задания, вопросы для закрепления нового материала и проверки качества его усвоения. При этом используются тесты, задачи, игры - деятельность, при которой требуется “пошевелить мозгами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аждом занятии желательно предоставлять возможность учащимся поработать на компьютер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79280" y="1268280"/>
          <a:ext cx="8713800" cy="3816360"/>
        </p:xfrm>
        <a:graphic>
          <a:graphicData uri="http://schemas.openxmlformats.org/drawingml/2006/table">
            <a:tbl>
              <a:tblPr/>
              <a:tblGrid>
                <a:gridCol w="1800360"/>
                <a:gridCol w="2152800"/>
                <a:gridCol w="3003480"/>
                <a:gridCol w="1757160"/>
              </a:tblGrid>
              <a:tr h="177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вательная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мышления, памяти, внимания; проверка усвоения изученного материала, домашнее задание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на компьютер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  <a:tr h="12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ения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сунки, таблицы, презентац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сты, задачи, рисунки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ПС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олжит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-15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-20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-15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разовательная система 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Школа 2100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Рекомендуемый учебно-методический комплект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 в играх и задачах: Учебник-тетрадь для 1 (2, 3, 4) кл. /А.В. Горячев и др. – М.: Баласс, 1998 – 2002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 в играх и задачах: Учебник-тетрадь для 1 (2, 3, 4) кл.  Методические рекомендации для учителя. /А.В. Горячев и др. – М.: Баласс, 1998 – 2002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Компьютерную поддержку рекомендуется осуществлять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утешествие в информатику (компьютерная поддержка  к курсу А.В. Горячева «Информатика в играх и задачах»)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акет «Роботландия» (авторы Ю.А. Первин, А.А. Дуванов и др.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5" name="Picture 11" descr="930606664"/>
          <p:cNvPicPr/>
          <p:nvPr/>
        </p:nvPicPr>
        <p:blipFill>
          <a:blip r:embed="rId1"/>
          <a:stretch/>
        </p:blipFill>
        <p:spPr>
          <a:xfrm>
            <a:off x="5292720" y="333360"/>
            <a:ext cx="3484440" cy="4564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186" name="Picture 8" descr="2759"/>
          <p:cNvPicPr/>
          <p:nvPr/>
        </p:nvPicPr>
        <p:blipFill>
          <a:blip r:embed="rId2"/>
          <a:stretch/>
        </p:blipFill>
        <p:spPr>
          <a:xfrm>
            <a:off x="3132000" y="1916280"/>
            <a:ext cx="2903760" cy="47178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187" name="Picture 14" descr="1000064670"/>
          <p:cNvPicPr/>
          <p:nvPr/>
        </p:nvPicPr>
        <p:blipFill>
          <a:blip r:embed="rId3"/>
          <a:stretch/>
        </p:blipFill>
        <p:spPr>
          <a:xfrm>
            <a:off x="0" y="189000"/>
            <a:ext cx="3405240" cy="439236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горитмы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кты, группы (классы) объект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гические рассужд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ение информатики в начальной школе по данному комплекту предполагается в основном без использования компьютеров. Компьютерная поддержка допустима, но не обязатель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разовательная система </a:t>
            </a: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«Перспективная начальная школа»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lnSpc>
                <a:spcPct val="8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900" spc="-1" strike="noStrike" u="sng">
                <a:solidFill>
                  <a:srgbClr val="ffffff"/>
                </a:solidFill>
                <a:uFillTx/>
                <a:latin typeface="Arial"/>
              </a:rPr>
              <a:t>Рекомендуемый учебно-методический комплект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ененсон Е.П., Паутова А.Г. Информатика. Учебник-тетрадь. 2 (3, 4) класс. В 2-х ч. - М.: Академ-книга, 2003-2005;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ененсон Е.П., Паутова А.Г. Информатика. 2 (3, 4) класс. Методическое пособие. - М.: Академ-книга, 2003-2005;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аутова А.Г. Информатика: Комплект компьютерных программ к учебнику-тетради. 2 (3, 4) класс. Методическое пособие + CD-диск. - М.: Академ-книга, 2003-2005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онная картина ми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ьютер – универсальная машина для обработки информ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горитмы и исполнит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кты и их свой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ческие нормы при работе с информацией и информационная безопас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ный УМК предусматривает два варианта преподавания информатики: без компьютерной поддержки (все задания выполняются в учебнике или тетради) и с компьютерной поддержкой (на основе специально разработанного программного комплекс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бразовательная система «Гармония» и другие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учебные планы и УМК данных образовательных систем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бная дисциплина «Информатика» не включена как самостоятельный предм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решению правомочного органа управления образовательным учреждением при наличии материально-технического, программно-методического и кадрового обеспечени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тику целесообразно включать в учебные планы начальной ступени обучения за счет часов компонента образовательного учрежд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Рекомендуемый для преподавания информатики УМК: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. 2 (3, 4) кл. - М.: Изд-во «Бином. Лаборатория знаний», 2004-2005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Информатика. Рабочая тетрадь для 2 (3, 4) кл. в 2-х частях, 2-е изд. - М.: Изд-во «Бином. Лаборатория знаний», 2004-2005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Информатика. Методический комплект: пособие + практикум на CD. - М.: Изд-во «Бином. Лаборатория знаний», 2004-2005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Введение в информатику: Комплект из 12 плакатов + методическое пособие. - М.: Изд-во «Бином. Лаборатория знаний», 2004-2005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view_images"/>
          <p:cNvPicPr/>
          <p:nvPr/>
        </p:nvPicPr>
        <p:blipFill>
          <a:blip r:embed="rId1"/>
          <a:stretch/>
        </p:blipFill>
        <p:spPr>
          <a:xfrm>
            <a:off x="155520" y="15840"/>
            <a:ext cx="2924280" cy="38098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06" name="Picture 7" descr="98657"/>
          <p:cNvPicPr/>
          <p:nvPr/>
        </p:nvPicPr>
        <p:blipFill>
          <a:blip r:embed="rId2"/>
          <a:stretch/>
        </p:blipFill>
        <p:spPr>
          <a:xfrm>
            <a:off x="2411280" y="1341360"/>
            <a:ext cx="3461040" cy="44640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07" name="Picture 11" descr="big-722754"/>
          <p:cNvPicPr/>
          <p:nvPr/>
        </p:nvPicPr>
        <p:blipFill>
          <a:blip r:embed="rId3"/>
          <a:stretch/>
        </p:blipFill>
        <p:spPr>
          <a:xfrm>
            <a:off x="5364000" y="2637000"/>
            <a:ext cx="3065760" cy="3889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нии обучения информатике в начальной школе должны соответствовать линиям основной школы, но реализуются на пропедевтическом уровн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означает, что должна существовать связь между обучением информатики в начальной и базовой школ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ормация, виды информации (по способу восприятия, по способу представления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ормационные объекты (текст, изображение, аудиозапись, видеозапись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сточники информации (живая и неживая природа, творения человека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работа с информацией (обмен, поиск, преобразование, хранение, использование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редства информационных технологий (телефон, компьютер, радио, телевидение, устройства мультимедиа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рганизация информации и данных (оглавление, указатели, каталоги, записные книжки и другое)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вторский курс </a:t>
            </a:r>
            <a:br>
              <a:rPr sz="4000"/>
            </a:b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«Первые шаги в мире информатики»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чебно-методический комплект состои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мире информатики. Методическое пособие для учителей. 1-4 класс. Тур С.Н., Бокучава Т.П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нформатика. Рабочая тетрадь. 1-4 класс. Тур С.Н., Бокучава Т.П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акет педагогических программных средств "Страна "Фантазия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6" name="Picture 13" descr="00043811big"/>
          <p:cNvPicPr/>
          <p:nvPr/>
        </p:nvPicPr>
        <p:blipFill>
          <a:blip r:embed="rId1"/>
          <a:stretch/>
        </p:blipFill>
        <p:spPr>
          <a:xfrm>
            <a:off x="324000" y="333360"/>
            <a:ext cx="2982600" cy="41752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17" name="Picture 5" descr="105833"/>
          <p:cNvPicPr/>
          <p:nvPr/>
        </p:nvPicPr>
        <p:blipFill>
          <a:blip r:embed="rId2"/>
          <a:stretch/>
        </p:blipFill>
        <p:spPr>
          <a:xfrm>
            <a:off x="2843280" y="1989000"/>
            <a:ext cx="3273480" cy="4537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18" name="Picture 9" descr="om_1860320"/>
          <p:cNvPicPr/>
          <p:nvPr/>
        </p:nvPicPr>
        <p:blipFill>
          <a:blip r:embed="rId3"/>
          <a:stretch/>
        </p:blipFill>
        <p:spPr>
          <a:xfrm>
            <a:off x="5364000" y="549360"/>
            <a:ext cx="3052800" cy="417672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новные содержательные линии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ведение в логику (понятие множества, работа с массивами, логические высказывания, понятие присваивания и т.п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ятие информации, виды работы с информаци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горитмы и исполни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ную поддержку на каждый год обучения обеспечивает пакет педагогических программных средств «Страна «Фантаз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 в каждом уроке дополнительного задания позволяет проводить уроки и в «безмашинном вариант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урс «Информатика»,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втор Семенов А.Л.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 комплект учебных материалов по информатике для каждого класса входят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Информатика. Книга для учителя (2-4 класс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 Информатика. Рабочая тетрадь проектов для 2 – 4 кл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Информатика. Учебное пособие для 2 - 4 кл. ч.1, 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Курс А. Л. Семенова и др. "Информатика" для начальной школы интегрирует теоретическую информатику, социальную информатику и информационные технологии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рограмма курса соответствует Обязательному минимуму содержания обучения для средних общеобразовательных учреждений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3851280" y="692280"/>
            <a:ext cx="2665440" cy="1873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7" descr="svalka"/>
          <p:cNvPicPr/>
          <p:nvPr/>
        </p:nvPicPr>
        <p:blipFill>
          <a:blip r:embed="rId1"/>
          <a:stretch/>
        </p:blipFill>
        <p:spPr>
          <a:xfrm>
            <a:off x="1547640" y="260280"/>
            <a:ext cx="5086440" cy="6597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Санитарно – гигиенические нормы для работы школьников за компьютером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438280" y="1600200"/>
          <a:ext cx="6400800" cy="493704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ы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торо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ти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реще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– 4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час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– 6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час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5 часа в неделю, но не более 45 мин.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– 9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часа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– 11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часа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часов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часов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должен осуществлять преподавание предмета: учитель информатики или учитель начального класс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информатики хорошо знает компьютерные технологии, но плохо - методику обучения и уровень развития младших школьни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начального класса, наоборот, не разбирается в компьютерах, но хорошо владеет методикой обуч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разбираться в психологии ребенк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владеть методическими приемами обучения детей младшего школьного возрас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ь специалистами в области информационных технолог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еподаватель  должен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м содержанием уроков информатики в начальной школе должны стать игры и задачи на формирование алгоритмического мышления, нестандартные  математические задачи и упражнения на формирование навыков работы на компьютер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075520" cy="9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Методы и формы обучения на уроках информатики в начальной школе: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алог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в группах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методи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онные минут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вристический подхо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нформати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начальной школ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едставле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 2002/03 учебного год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к отдельный предмет в связи с эксперимент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 совершенствованию структуры и содержания общего образования, и начальной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жет изучатьс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 ступени начального общего образовани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 качестве самостоятельного учебного предмета только за счет часов, предусмотренных учебными планами отдельных образовательных систем начальной школы,  или  компонента образовательного учрежд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по решению правомочного органа управления образовательным учреждение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Picture 50" descr=""/>
          <p:cNvPicPr/>
          <p:nvPr/>
        </p:nvPicPr>
        <p:blipFill>
          <a:blip r:embed="rId1">
            <a:lum contrast="36000"/>
          </a:blip>
          <a:srcRect l="7051" t="28311" r="7051" b="44199"/>
          <a:stretch/>
        </p:blipFill>
        <p:spPr>
          <a:xfrm>
            <a:off x="0" y="1484280"/>
            <a:ext cx="9144000" cy="30970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имерном учебном плане для образовательных учреждений Российской Федерации, реализующих программы общего образования, предмет «Информатика и ИКТ» представлен в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-4 класс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качеств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бязатель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20-25 часовог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чебного модул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«Практика работы на компьютере (использования информационных технологий)» в рамках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едмета «Технолог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___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 (утвержден приказом № 1312 Министерства образования РФ от 09.03.2004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и изучения, обязательный минимум содержания, требования к уровню подготовки выпускни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 данному учебному модулю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пределе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федеральным компонентом государственного образовательного стандарта начального общего образования предмета «Технология»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и наличии материально-технического обеспе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Федеральный компонент государственного стандарта общего образования. Часть I. Начальное общее образование. Основное общее образование. / Министерство образования Российской Федерации. – М. 2004. – 221 с. – С.56-6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4:36:31Z</dcterms:created>
  <dc:creator>Админ</dc:creator>
  <dc:description/>
  <dc:language>en-US</dc:language>
  <cp:lastModifiedBy>LEGION</cp:lastModifiedBy>
  <dcterms:modified xsi:type="dcterms:W3CDTF">2015-04-01T07:39:50Z</dcterms:modified>
  <cp:revision>18</cp:revision>
  <dc:subject/>
  <dc:title>Информатика в современной начальной школе</dc:title>
</cp:coreProperties>
</file>